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F05-159B-42FD-BD93-793B37A4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9AF-578D-4A36-9E44-138EB1ED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D7D-9577-4952-9270-EA4739EE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CFBA-AEC4-4391-BD15-496F2CEF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0AC-CAB2-4279-A7BB-6F5F5030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38A-6DFF-4624-9F69-2040374B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6DD-3C03-4CFB-BFAB-0A352B79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7CF-BA50-43DA-81CF-0342683D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764-2935-4D20-A73F-1AD5A1C1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76E-A7F7-4D91-B625-F5822D32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F3B-C2BB-44B4-8AE0-0025A5A6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08E-D38D-49D7-A39B-8E7C7A0C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79E6-EDC1-41B7-9DD5-0E1DB36997DF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438120"/>
            <a:ext cx="9144000" cy="75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هبوا في الأرض كلِّها وأَعلنوا</a:t>
            </a:r>
            <a:r>
              <a:rPr b="1" lang="ar-SA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بشارةَ إلى الخلقِ أجمَعين</a:t>
            </a:r>
            <a:r>
              <a:rPr b="1" lang="ar-LB" sz="8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24000" y="-3873240"/>
            <a:ext cx="4572000" cy="14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يُضئ نورُكم للناس فيمجّدوا أباكُمُ الذ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ي السماوات</a:t>
            </a:r>
            <a:r>
              <a:rPr b="1" lang="ar-LB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438120"/>
            <a:ext cx="9144000" cy="75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هبوا في الأرض كلِّها وأَعلنوا</a:t>
            </a:r>
            <a:r>
              <a:rPr b="1" lang="ar-SA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بشارةَ إلى الخلقِ أجمَعين</a:t>
            </a:r>
            <a:r>
              <a:rPr b="1" lang="ar-LB" sz="8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95640" y="-1097280"/>
            <a:ext cx="4643280" cy="90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ا يكونَّنَ عليكم لأحدٍ دينٌ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لاّ حُبُّ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عضِكُم لبعض</a:t>
            </a:r>
            <a:r>
              <a:rPr b="1" lang="ar-LB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438120"/>
            <a:ext cx="9144000" cy="75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هبوا في الأرض كلِّها وأَعلنوا</a:t>
            </a:r>
            <a:r>
              <a:rPr b="1" lang="ar-SA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بشارةَ إلى الخلقِ أجمَعين</a:t>
            </a:r>
            <a:r>
              <a:rPr b="1" lang="ar-LB" sz="8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20:33:17Z</dcterms:created>
  <dc:creator>Charbel Azar</dc:creator>
  <dc:description/>
  <dc:language>en-US</dc:language>
  <cp:lastModifiedBy>Charbel Azar</cp:lastModifiedBy>
  <dcterms:modified xsi:type="dcterms:W3CDTF">2006-03-07T21:56:07Z</dcterms:modified>
  <cp:revision>5</cp:revision>
  <dc:subject/>
  <dc:title>Slide 1</dc:title>
</cp:coreProperties>
</file>